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6E543F-75EA-48E2-84D4-5377407B3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907164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000" y="3044160"/>
            <a:ext cx="907164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CF2121-C4C0-4D28-ABB3-859A1025D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400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268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F5A4C2-15AF-4A4C-AE27-63E57F048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1200" y="132660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8040" y="132660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4000" y="304416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1200" y="304416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8040" y="304416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88DDF1-9930-4D8F-922C-3C2CDDC28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4000" y="1326600"/>
            <a:ext cx="907164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54B168-D4F1-4AE9-B405-4A16D1345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907164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953597-7BFA-4B7D-B6ED-30AA5A627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DCA241-B2F6-47E5-B681-23867027A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A6F0B2-D1EC-46C8-99DC-54BC68193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D43577-DEDD-4E66-BC05-47C32A191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400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628CD1-47E0-471E-A1A5-BBDF011DF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268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78F201-E0C8-4721-AD27-826DC350E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4000" y="3044160"/>
            <a:ext cx="907164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6BDF47-19AE-4653-AB92-E91A98062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3448080" y="5165280"/>
            <a:ext cx="3192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CCB1C-6B60-4E4D-9589-798CEFBA7E6D}" type="slidenum">
              <a: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dt" idx="3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504000" y="1326600"/>
            <a:ext cx="907164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3000"/>
              </a:lnSpc>
              <a:spcBef>
                <a:spcPts val="1137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862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575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28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12-01T13:27:04Z</dcterms:created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/>
</file>